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F61C-5807-44D8-9287-DBCA71A40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D1D-9EB1-4EDB-904F-62ADC125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6D8-D59D-4D0F-A77C-DEA1485B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74A7-DC91-46D3-B72A-EDC6BF7E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7DE2-984E-4355-AF47-28571D6C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A87-4095-4A10-B107-D95F2E77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6B5-8810-4B2B-8AD4-12C8CBCF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099-1C42-4288-A247-A0682D97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053-2D19-4393-8C4B-E1916571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8A9-7389-4BE8-8405-7EE488DA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8E3-02AC-4595-80EF-FBC9897A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BEB-1433-42C3-82F4-FCA951CB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AEA4-0B30-4173-884F-FA7FD8045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igh Energy Gamma Ray projects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t the Institute of Space Sciences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efforts made at the Institute of Space Sciences in Bucharest to open the VHE gamma ray window in Roman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- build a ground based Cherenkov telescope for the study of the VHE gamma 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- already have two ongoing projects financed by national programs, that are thought to open the way for building this tele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1219320"/>
            <a:ext cx="7696080" cy="55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igh Energy Gamma Ray projects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t the Institute of Space Sciences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udies concerning the installation of a High Energy Gamma Ray Cherenkov telescope in Romania – GAMMA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Project No.  81-010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/ Sept. 18, 2007, 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PNCDI2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, 21 Mont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web site:  venus.nipne.ro/projects/gamm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artners at the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itute of the Space Sciences (IS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(the leading Institu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Project Manager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Dr. Aurelian Andrei RADU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, andreiradu@venus.nipne.ro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ional Meteorological Administration (METEO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echnical University of Civil Engineering Bucharest (TUCEB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705720" y="5257800"/>
            <a:ext cx="380880" cy="314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1219320"/>
            <a:ext cx="7696080" cy="55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58200" y="5562720"/>
            <a:ext cx="347760" cy="361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543800" y="4495680"/>
            <a:ext cx="68580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igh Energy Gamma Ray projects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t the Institute of Space Sciences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neral Objectives (GAMMATEL – proj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Gain the necessary knowledge to build a first Gamma Ray Observatory in Romania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Choose a site which complies with specific requirements such as: high enough altitude, large horizon, meteorological conditions to allow observ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Realistic estimation of the necessary technical effort for building the observatory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a conception plan for the dome, the ice-melting and heating system, the evaluation of the necessary electrical power, the evaluation of the operations for the local infrastructure (roads, electrical network, water, etc.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Identification of a group of compani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(designing, building, etc.) </a:t>
            </a: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with whom to create 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consortium for building the observatory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A preliminary analysis of the environmental impact as well as a of the impact on the local commun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ff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Strengthen the connection with the ApPEC and ASPERA member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 in order to submit a proposal for a large European gamma ray astronomy infrastructure, in the frame of FP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1219320"/>
            <a:ext cx="7696080" cy="55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igh Energy Gamma Ray projects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t the Institute of Space Sciences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Optomecatronic measuring system for the light of night sky background that affect the ground based experiments to detect galactic and extragalactic gamma rays - OPTOGATR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Project No.  82-099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/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Oct. 01, 2008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PNCDI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36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The OPTOGATRON project has just been fin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artners at the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itute of the Space Sciences (IS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(the leading Institu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Project Manager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 - 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Dr. Aurelian Andrei RADU</a:t>
            </a:r>
            <a:r>
              <a:rPr b="0" lang="en-US" sz="1800" spc="-1" strike="noStrike">
                <a:solidFill>
                  <a:srgbClr val="990000"/>
                </a:solidFill>
                <a:latin typeface="Times New Roman"/>
              </a:rPr>
              <a:t>, andreiradu@venus.nipne.ro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ional Meteorological Administration (METE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National Institute for Research &amp; Development in Fin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chanics (INCDM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- Romanian Space Agency (ROS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76920" y="6019920"/>
            <a:ext cx="576000" cy="561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1219320"/>
            <a:ext cx="7696080" cy="55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467480" y="4114800"/>
            <a:ext cx="997200" cy="455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781680" y="4952880"/>
            <a:ext cx="45720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High Energy Gamma Ray projects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at the Institute of Space Sciences (I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general objec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to design, build and test a complex system for the measurement of the LON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i="1" lang="en-US" sz="2600" spc="-1" strike="noStrike" u="sng">
                <a:solidFill>
                  <a:srgbClr val="000066"/>
                </a:solidFill>
                <a:uFillTx/>
                <a:latin typeface="Times New Roman"/>
              </a:rPr>
              <a:t>light of night sky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ackground that affects the ground based Cherenkov telesco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system may be used in the selection procedure of an optimum location for the operation of a Cherenkov telescope and may represent a significant instrumental contribution for Romania and the European CTA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1219320"/>
            <a:ext cx="7696080" cy="55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09:37:44Z</dcterms:created>
  <dc:creator>AAR</dc:creator>
  <dc:description/>
  <dc:language>en-US</dc:language>
  <cp:lastModifiedBy>AAR</cp:lastModifiedBy>
  <dcterms:modified xsi:type="dcterms:W3CDTF">2009-01-01T23:00:20Z</dcterms:modified>
  <cp:revision>49</cp:revision>
  <dc:subject/>
  <dc:title>Slide 1</dc:title>
</cp:coreProperties>
</file>